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8.wmf" ContentType="image/x-wmf"/>
  <Override PartName="/ppt/media/image9.wmf" ContentType="image/x-wmf"/>
  <Override PartName="/ppt/media/image5.png" ContentType="image/png"/>
  <Override PartName="/ppt/media/image13.wmf" ContentType="image/x-wmf"/>
  <Override PartName="/ppt/media/image10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5248-88EA-4079-AC46-96954BF94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739-4374-493C-B0AC-D5D7A99B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64E-5A88-406A-91BA-A1EADD7210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D4F-E9ED-4BA2-A937-6CF4798DD1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A6CA-DDD3-49E2-AD2B-774F0C71A1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46B7-F336-47B3-86CC-8825715DE7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D3A-D5B6-43BA-B2D6-8D5C516BDB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048E-F44B-49C3-BA66-152033BC1B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EB77-B4FF-48F7-999C-E089CB7A00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080-D026-45FA-B829-D6602D99D1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CCC-CEA0-4DA6-BE90-6D763BC9CB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F2A-BBFF-4426-8130-B50539A5C8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futur proch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Tu choisis un pull plus peti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480" y="5043600"/>
            <a:ext cx="78487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Tu vas choisir un pull plus pet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C:\Documents and Settings\Michael\Local Settings\Temporary Internet Files\Content.IE5\UNJL8L70\MC900232986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22860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Vous maigrissez beaucoup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120" y="4800600"/>
            <a:ext cx="78483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Vous allez maigrir beauco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Michael\Local Settings\Temporary Internet Files\Content.IE5\M6N0CPZS\MC900389120[1].wmf"/>
          <p:cNvPicPr/>
          <p:nvPr/>
        </p:nvPicPr>
        <p:blipFill>
          <a:blip r:embed="rId1"/>
          <a:stretch/>
        </p:blipFill>
        <p:spPr>
          <a:xfrm>
            <a:off x="3657600" y="2895480"/>
            <a:ext cx="1857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240" y="2147400"/>
            <a:ext cx="75438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exprimer un événement dans le future on utilis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le futur proche (the near future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 futur proche utilise le verbe 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ALL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00200" y="16142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conjugaisons pour ALLER sont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676520" y="2452680"/>
            <a:ext cx="32004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je v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tu 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il/elle/on 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81480" y="2438280"/>
            <a:ext cx="335304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nous all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vous all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ils/elles vo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Michael\Local Settings\Temporary Internet Files\Content.IE5\1X2V9UFE\MC900440348[1].png"/>
          <p:cNvPicPr/>
          <p:nvPr/>
        </p:nvPicPr>
        <p:blipFill>
          <a:blip r:embed="rId7"/>
          <a:stretch/>
        </p:blipFill>
        <p:spPr>
          <a:xfrm>
            <a:off x="3276720" y="4267080"/>
            <a:ext cx="36576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599840"/>
            <a:ext cx="7772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former le futur proche, utilisez une forme d’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905120" y="3719520"/>
            <a:ext cx="17524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</a:rPr>
              <a:t>Je v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95280" y="26668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uis, ajouter un verbe à l’infiniti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505320" y="3719520"/>
            <a:ext cx="5410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cc"/>
                </a:solidFill>
                <a:latin typeface="Tahoma"/>
              </a:rPr>
              <a:t>regarder la télé ce so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066680" y="4419720"/>
            <a:ext cx="8382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ahoma"/>
              </a:rPr>
              <a:t>I am going</a:t>
            </a: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4000" spc="-1" strike="noStrike">
                <a:solidFill>
                  <a:srgbClr val="0033cc"/>
                </a:solidFill>
                <a:latin typeface="Tahoma"/>
              </a:rPr>
              <a:t>to watch TV to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C:\Documents and Settings\Michael\Local Settings\Temporary Internet Files\Content.IE5\KKLOUJEO\MC900060244[1].wmf"/>
          <p:cNvPicPr/>
          <p:nvPr/>
        </p:nvPicPr>
        <p:blipFill>
          <a:blip r:embed="rId2"/>
          <a:stretch/>
        </p:blipFill>
        <p:spPr>
          <a:xfrm>
            <a:off x="6019920" y="4952880"/>
            <a:ext cx="1812960" cy="157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Documents and Settings\Michael\Local Settings\Temporary Internet Files\Content.IE5\1X2V9UFE\MC900431514[1].png"/>
          <p:cNvPicPr/>
          <p:nvPr/>
        </p:nvPicPr>
        <p:blipFill>
          <a:blip r:embed="rId3"/>
          <a:stretch/>
        </p:blipFill>
        <p:spPr>
          <a:xfrm>
            <a:off x="26668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167652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ntenant, récrivez ces phrases au futur proch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Je joue au foo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451008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Je vais jouer au fo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3583080" y="2914560"/>
            <a:ext cx="1827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Il mange le desser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5800" y="428148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Il va manger le dess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Documents and Settings\Michael\Local Settings\Temporary Internet Files\Content.IE5\M6N0CPZS\MC900388794[1].wmf"/>
          <p:cNvPicPr/>
          <p:nvPr/>
        </p:nvPicPr>
        <p:blipFill>
          <a:blip r:embed="rId1"/>
          <a:stretch/>
        </p:blipFill>
        <p:spPr>
          <a:xfrm>
            <a:off x="3505320" y="2854440"/>
            <a:ext cx="24336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Elles écoutent la musique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4586400"/>
            <a:ext cx="78487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Elles vont écouter la musi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C:\Documents and Settings\Michael\Local Settings\Temporary Internet Files\Content.IE5\KKLOUJEO\MC900447160[1].jpg"/>
          <p:cNvPicPr/>
          <p:nvPr/>
        </p:nvPicPr>
        <p:blipFill>
          <a:blip r:embed="rId1"/>
          <a:stretch/>
        </p:blipFill>
        <p:spPr>
          <a:xfrm>
            <a:off x="3657600" y="2895480"/>
            <a:ext cx="22096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Nous faisons les magasins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38080" y="4724280"/>
            <a:ext cx="78487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Nous allons faire les maga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Documents and Settings\Michael\Local Settings\Temporary Internet Files\Content.IE5\85PZP2BU\MC900441576[1].wmf"/>
          <p:cNvPicPr/>
          <p:nvPr/>
        </p:nvPicPr>
        <p:blipFill>
          <a:blip r:embed="rId1"/>
          <a:stretch/>
        </p:blipFill>
        <p:spPr>
          <a:xfrm>
            <a:off x="3637080" y="2752560"/>
            <a:ext cx="314460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4T14:06:58Z</dcterms:modified>
  <cp:revision>79</cp:revision>
  <dc:subject/>
  <dc:title>Allez, viens! – Level 2</dc:title>
</cp:coreProperties>
</file>